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691-E2B9-4ECD-B466-2A9B105F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CF5-6051-46CD-9A65-9FBA9160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CC5-5BFC-435B-9D4B-8D59A95E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90D-DF6B-4F48-BE05-748C4AE2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5A6-CD19-4C34-862A-FB20E7D9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73D7-76EA-4542-851B-72BC54B4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651-54B3-45D6-8BE2-001810A3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2440-865E-4EDB-AD55-AE29B8DD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616F-8219-421F-827D-9C9D37A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52F-271F-4223-B0FA-6E7CB58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928-6C51-4566-98DA-1A92475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BA4-F9FF-42E4-AB90-81B588C3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ECA-4964-4B3E-A48A-1985851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A54-C761-422C-A491-C9071CC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831E-CB03-44DF-9B22-A67169D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DF7-E59A-4A67-B11B-B74BC2DB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54A0-6423-4B40-BA6A-88A1C614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716-902A-438E-B2A9-CFAE2314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AA4-F419-4C49-8D14-4281C42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42F-035A-4742-B8BE-7E467B3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042-FA49-40B8-A5A0-8D5DF60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653-340A-4F38-9C19-1EBF7AD6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C9C-6113-46F6-B188-82A0F2B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FE1-F677-4E46-BCA9-435F936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53B-4FE8-451D-89C6-2DD0158B5E41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4B7-518B-43C3-A534-687F5BE5CAA3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ps.google.at/maps?hl=de&amp;q=map+of+Great+Britain&amp;um=1&amp;ie=UTF-8&amp;hq=&amp;hnear=Vereinigtes+K&#246;nigreich&amp;gl=at&amp;ei=ZvO-S6_-HNaJOLPd2JYE&amp;sa=X&amp;oi=geocode_result&amp;ct=image&amp;resnum=1&amp;ved=0CAsQ8gEwAA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nited_Kingdom_of_Great_Britain_and_Northern_Ireland" TargetMode="External"/><Relationship Id="rId2" Type="http://schemas.openxmlformats.org/officeDocument/2006/relationships/hyperlink" Target="http://en.wikipedia.org/wiki/Isle_of_Wight" TargetMode="External"/><Relationship Id="rId3" Type="http://schemas.openxmlformats.org/officeDocument/2006/relationships/hyperlink" Target="http://en.wikipedia.org/wiki/Anglesey" TargetMode="External"/><Relationship Id="rId4" Type="http://schemas.openxmlformats.org/officeDocument/2006/relationships/hyperlink" Target="http://en.wikipedia.org/wiki/Isles_of_Scilly" TargetMode="External"/><Relationship Id="rId5" Type="http://schemas.openxmlformats.org/officeDocument/2006/relationships/hyperlink" Target="http://en.wikipedia.org/wiki/Hebrides" TargetMode="External"/><Relationship Id="rId6" Type="http://schemas.openxmlformats.org/officeDocument/2006/relationships/hyperlink" Target="http://en.wikipedia.org/wiki/Orkney" TargetMode="External"/><Relationship Id="rId7" Type="http://schemas.openxmlformats.org/officeDocument/2006/relationships/hyperlink" Target="http://en.wikipedia.org/wiki/Shetland" TargetMode="External"/><Relationship Id="rId8" Type="http://schemas.openxmlformats.org/officeDocument/2006/relationships/hyperlink" Target="http://en.wikipedia.org/wiki/Isle_of_Man" TargetMode="External"/><Relationship Id="rId9" Type="http://schemas.openxmlformats.org/officeDocument/2006/relationships/hyperlink" Target="http://en.wikipedia.org/wiki/Channel_Islands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mmonwealth_realm" TargetMode="External"/><Relationship Id="rId2" Type="http://schemas.openxmlformats.org/officeDocument/2006/relationships/hyperlink" Target="http://en.wikipedia.org/wiki/United_Kingdom" TargetMode="External"/><Relationship Id="rId3" Type="http://schemas.openxmlformats.org/officeDocument/2006/relationships/hyperlink" Target="http://en.wikipedia.org/wiki/Canada" TargetMode="External"/><Relationship Id="rId4" Type="http://schemas.openxmlformats.org/officeDocument/2006/relationships/hyperlink" Target="http://en.wikipedia.org/wiki/Australia" TargetMode="External"/><Relationship Id="rId5" Type="http://schemas.openxmlformats.org/officeDocument/2006/relationships/hyperlink" Target="http://en.wikipedia.org/wiki/New_Zealand" TargetMode="External"/><Relationship Id="rId6" Type="http://schemas.openxmlformats.org/officeDocument/2006/relationships/hyperlink" Target="http://en.wikipedia.org/wiki/Jamaica" TargetMode="External"/><Relationship Id="rId7" Type="http://schemas.openxmlformats.org/officeDocument/2006/relationships/hyperlink" Target="http://en.wikipedia.org/wiki/Barbados" TargetMode="External"/><Relationship Id="rId8" Type="http://schemas.openxmlformats.org/officeDocument/2006/relationships/hyperlink" Target="http://en.wikipedia.org/wiki/The_Bahamas" TargetMode="External"/><Relationship Id="rId9" Type="http://schemas.openxmlformats.org/officeDocument/2006/relationships/hyperlink" Target="http://en.wikipedia.org/wiki/Grenada" TargetMode="External"/><Relationship Id="rId10" Type="http://schemas.openxmlformats.org/officeDocument/2006/relationships/hyperlink" Target="http://en.wikipedia.org/wiki/Papua_New_Guinea" TargetMode="External"/><Relationship Id="rId11" Type="http://schemas.openxmlformats.org/officeDocument/2006/relationships/hyperlink" Target="http://en.wikipedia.org/wiki/Solomon_Islands" TargetMode="External"/><Relationship Id="rId12" Type="http://schemas.openxmlformats.org/officeDocument/2006/relationships/hyperlink" Target="http://en.wikipedia.org/wiki/Tuvalu" TargetMode="External"/><Relationship Id="rId13" Type="http://schemas.openxmlformats.org/officeDocument/2006/relationships/hyperlink" Target="http://en.wikipedia.org/wiki/Saint_Lucia" TargetMode="External"/><Relationship Id="rId14" Type="http://schemas.openxmlformats.org/officeDocument/2006/relationships/hyperlink" Target="http://en.wikipedia.org/wiki/Saint_Vincent_and_the_Grenadines" TargetMode="External"/><Relationship Id="rId15" Type="http://schemas.openxmlformats.org/officeDocument/2006/relationships/hyperlink" Target="http://en.wikipedia.org/wiki/Saint_Vincent_and_the_Grenadines" TargetMode="External"/><Relationship Id="rId16" Type="http://schemas.openxmlformats.org/officeDocument/2006/relationships/hyperlink" Target="http://en.wikipedia.org/wiki/Saint_Vincent_and_the_Grenadines" TargetMode="External"/><Relationship Id="rId17" Type="http://schemas.openxmlformats.org/officeDocument/2006/relationships/hyperlink" Target="http://en.wikipedia.org/wiki/Belize" TargetMode="External"/><Relationship Id="rId18" Type="http://schemas.openxmlformats.org/officeDocument/2006/relationships/hyperlink" Target="http://en.wikipedia.org/wiki/Antigua_and_Barbuda" TargetMode="External"/><Relationship Id="rId19" Type="http://schemas.openxmlformats.org/officeDocument/2006/relationships/hyperlink" Target="http://en.wikipedia.org/wiki/Saint_Kitts_and_Nevis" TargetMode="External"/><Relationship Id="rId20" Type="http://schemas.openxmlformats.org/officeDocument/2006/relationships/hyperlink" Target="http://de.wikipedia.org/w/index.php?title=Datei:Elizabeth_II_greets_NASA_GSFC_employees,_May_8,_2007_edit.jpg&amp;filetimestamp=20070907063144" TargetMode="External"/><Relationship Id="rId21" Type="http://schemas.openxmlformats.org/officeDocument/2006/relationships/image" Target="../media/image7.jpeg"/><Relationship Id="rId22" Type="http://schemas.openxmlformats.org/officeDocument/2006/relationships/hyperlink" Target="http://en.wikipedia.org/wiki/File:Queen_Elizabeth_II_1929.jpg" TargetMode="External"/><Relationship Id="rId23" Type="http://schemas.openxmlformats.org/officeDocument/2006/relationships/image" Target="../media/image8.jpeg"/><Relationship Id="rId24" Type="http://schemas.openxmlformats.org/officeDocument/2006/relationships/hyperlink" Target="http://en.wikipedia.org/wiki/File:ElizabethIItroopingcolour_crop.jpg" TargetMode="External"/><Relationship Id="rId25" Type="http://schemas.openxmlformats.org/officeDocument/2006/relationships/image" Target="../media/image9.jpeg"/><Relationship Id="rId2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ronation" TargetMode="External"/><Relationship Id="rId2" Type="http://schemas.openxmlformats.org/officeDocument/2006/relationships/hyperlink" Target="http://en.wikipedia.org/wiki/George_VI_of_the_United_Kingdom" TargetMode="External"/><Relationship Id="rId3" Type="http://schemas.openxmlformats.org/officeDocument/2006/relationships/hyperlink" Target="http://en.wikipedia.org/wiki/Charles,_Prince_of_Wales" TargetMode="External"/><Relationship Id="rId4" Type="http://schemas.openxmlformats.org/officeDocument/2006/relationships/hyperlink" Target="http://en.wikipedia.org/wiki/Prince_Philip,_Duke_of_Edinburgh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Charles,_Prince_of_Wales" TargetMode="External"/><Relationship Id="rId7" Type="http://schemas.openxmlformats.org/officeDocument/2006/relationships/hyperlink" Target="http://en.wikipedia.org/wiki/Anne,_Princess_Royal" TargetMode="External"/><Relationship Id="rId8" Type="http://schemas.openxmlformats.org/officeDocument/2006/relationships/hyperlink" Target="http://en.wikipedia.org/wiki/Prince_Andrew,_Duke_of_York" TargetMode="External"/><Relationship Id="rId9" Type="http://schemas.openxmlformats.org/officeDocument/2006/relationships/hyperlink" Target="http://en.wikipedia.org/wiki/Prince_Edward,_Earl_of_Wessex" TargetMode="External"/><Relationship Id="rId10" Type="http://schemas.openxmlformats.org/officeDocument/2006/relationships/hyperlink" Target="http://en.wikipedia.org/wiki/Royal_house" TargetMode="External"/><Relationship Id="rId11" Type="http://schemas.openxmlformats.org/officeDocument/2006/relationships/hyperlink" Target="http://en.wikipedia.org/wiki/House_of_Windsor" TargetMode="External"/><Relationship Id="rId12" Type="http://schemas.openxmlformats.org/officeDocument/2006/relationships/hyperlink" Target="http://en.wikipedia.org/wiki/House_of_Windsor" TargetMode="External"/><Relationship Id="rId13" Type="http://schemas.openxmlformats.org/officeDocument/2006/relationships/hyperlink" Target="http://en.wikipedia.org/wiki/George_VI_of_the_United_Kingdom" TargetMode="External"/><Relationship Id="rId14" Type="http://schemas.openxmlformats.org/officeDocument/2006/relationships/hyperlink" Target="http://en.wikipedia.org/wiki/Elizabeth_Bowes-Lyon" TargetMode="External"/><Relationship Id="rId15" Type="http://schemas.openxmlformats.org/officeDocument/2006/relationships/hyperlink" Target="http://en.wikipedia.org/wiki/Mayfair" TargetMode="External"/><Relationship Id="rId16" Type="http://schemas.openxmlformats.org/officeDocument/2006/relationships/hyperlink" Target="http://en.wikipedia.org/wiki/Church_of_England" TargetMode="External"/><Relationship Id="rId17" Type="http://schemas.openxmlformats.org/officeDocument/2006/relationships/hyperlink" Target="http://en.wikipedia.org/wiki/Church_of_Scotland" TargetMode="External"/><Relationship Id="rId18" Type="http://schemas.openxmlformats.org/officeDocument/2006/relationships/hyperlink" Target="http://en.wikipedia.org/wiki/File:Bundesarchiv_Bild_199-1992-089-19Acropped.jpg" TargetMode="External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Queen_of_Canada" TargetMode="External"/><Relationship Id="rId2" Type="http://schemas.openxmlformats.org/officeDocument/2006/relationships/hyperlink" Target="http://en.wikipedia.org/wiki/Queen_of_Australia" TargetMode="External"/><Relationship Id="rId3" Type="http://schemas.openxmlformats.org/officeDocument/2006/relationships/hyperlink" Target="http://en.wikipedia.org/wiki/Channel_Islands" TargetMode="External"/><Relationship Id="rId4" Type="http://schemas.openxmlformats.org/officeDocument/2006/relationships/hyperlink" Target="http://en.wikipedia.org/wiki/Isle_of_Man" TargetMode="External"/><Relationship Id="rId5" Type="http://schemas.openxmlformats.org/officeDocument/2006/relationships/hyperlink" Target="http://en.wikipedia.org/wiki/Duke_of_Normandy" TargetMode="External"/><Relationship Id="rId6" Type="http://schemas.openxmlformats.org/officeDocument/2006/relationships/hyperlink" Target="http://en.wikipedia.org/wiki/Lord_of_Man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British Isle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Geography and some facts about The Quee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33360"/>
            <a:ext cx="2571840" cy="1762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26920" y="4581360"/>
            <a:ext cx="1238400" cy="154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atellite_image_of_Great_Britain_and_Northern_Ireland_in_April_2002.jpg"/>
          <p:cNvPicPr/>
          <p:nvPr/>
        </p:nvPicPr>
        <p:blipFill>
          <a:blip r:embed="rId4"/>
          <a:stretch/>
        </p:blipFill>
        <p:spPr>
          <a:xfrm>
            <a:off x="179280" y="115920"/>
            <a:ext cx="2455920" cy="3583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Portrait in oils of a rosy-cheeked girl with blue eyes and fair hair"/>
          <p:cNvPicPr/>
          <p:nvPr/>
        </p:nvPicPr>
        <p:blipFill>
          <a:blip r:embed="rId5"/>
          <a:stretch/>
        </p:blipFill>
        <p:spPr>
          <a:xfrm>
            <a:off x="7481880" y="4437000"/>
            <a:ext cx="1662120" cy="216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Union Flag"/>
          <p:cNvPicPr/>
          <p:nvPr/>
        </p:nvPicPr>
        <p:blipFill>
          <a:blip r:embed="rId6"/>
          <a:stretch/>
        </p:blipFill>
        <p:spPr>
          <a:xfrm>
            <a:off x="2771640" y="907920"/>
            <a:ext cx="2881440" cy="144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495600" y="1882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nion Flag or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nion Jack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546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gland, Great Britain, United Kingd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Great Britain is the largest island of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United Kingdom of Great Britain and Northern Ire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Politically, Great Britain also refers to England, Scotland and Wales in combination, and therefore also includes a number of outlying islands such as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Isle of Wight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Anglese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Isles of Scill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Hebride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and the island groups of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Orkne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Shet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It does not include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Isle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Channel Island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which are not part of the United Kingdom, instead being self-governing dependent territories of that state with their own legislative and taxation system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Arial"/>
              </a:rPr>
              <a:t>THE BRITISH ISLES </a:t>
            </a: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 geograph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aeaea"/>
                </a:solidFill>
                <a:latin typeface="Verdana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British Isles are surrounded by the ……………….. Ocean, the ……….Sea, the …………… Sea and the ………………. 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biggest parts of the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British Isles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are: …………………………. and …………………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sea between these two parts is called ………………… Sea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most important Islands are: ………………….. Islands and the ……………………..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Islands. The H…………….  and the C …………… Island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Between Ireland and Great Britain there is the Isle of ……….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When you speak of The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United Kingdom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you mean: ……………………, ……………,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…………………… and …………………………….! When you speak of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Great Britain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you only mean: …………………., ………………………. and ………………..</a:t>
            </a:r>
            <a:br>
              <a:rPr sz="1800"/>
            </a:b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England 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is only the biggest part of Great Britain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capital city of England is ………………….., but it’s also the capital city of Great Britain and The …………………………………..!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The capital city of Scotland is …………………….,the capital of Wales is……………..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and of Northern Ireland is…………………… The capital city of EIRE is ………………… But </a:t>
            </a:r>
            <a:r>
              <a:rPr b="0" lang="en-GB" sz="1800" spc="-1" strike="noStrike" u="sng">
                <a:solidFill>
                  <a:srgbClr val="eaeaea"/>
                </a:solidFill>
                <a:uFillTx/>
                <a:latin typeface="Verdana"/>
              </a:rPr>
              <a:t>EIRE is a country of its own!</a:t>
            </a:r>
            <a:r>
              <a:rPr b="0" lang="en-GB" sz="1800" spc="-1" strike="noStrike">
                <a:solidFill>
                  <a:srgbClr val="eaeaea"/>
                </a:solidFill>
                <a:latin typeface="Verdana"/>
              </a:rPr>
              <a:t> It does NOT belong to the United Kingdom!!!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een Elisabeth The Seco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Queen of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6 sovereign countries</a:t>
            </a: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United Kingdom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ana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Australi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New Zealand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Jamaic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Barbado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The Bahama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Grena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Papua New Guine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Solomon Island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Tuvalu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Saint Luci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Saint Vincent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th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 Grenadines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Belize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Antigua and Barbuda</a:t>
            </a:r>
            <a:br>
              <a:rPr sz="1800"/>
            </a:b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Saint Kitts and Nev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Elisabeth II. (2007)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877000" y="1600200"/>
            <a:ext cx="157932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Head and shoulders portrait of a thoughtful-looking toddler with curly, fair hair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751360" y="3941640"/>
            <a:ext cx="18306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Lady wearing red uniform on a black horse flanked by two other riders dressed as guardsmen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3524400" y="2705040"/>
            <a:ext cx="2095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Reign 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6 February 1952 – present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58 years, 62 day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Coronation</a:t>
            </a: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 June 1953 (aged 27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Predecesso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George V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Heir apparent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harles, Prince of Wa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Husband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Prince Philip, Duke of Edinburgh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 action="ppaction://hlinksldjump"/>
              </a:rPr>
              <a:t>Detai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Children: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Charles, Prince of Wales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Anne, Princess Royal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Prince Andrew, Duke of York</a:t>
            </a:r>
            <a:br>
              <a:rPr sz="1800"/>
            </a:b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Prince Edward, Earl of Wessex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Full name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Elizabeth Alexandra Mary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Hous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House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 of Winds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Fathe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George V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Mother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Elizabeth Bowes-Ly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Bor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1 April 1926 ) (age 83)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Mayfair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, Lond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Signature Religion </a:t>
            </a:r>
            <a:r>
              <a:rPr b="1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Church of England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&amp;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Church of Scotlan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Elderly couple in evening wear. She holds a pair of spectacles to her mouth in a thoughtful pose.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516720" y="155736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titles and honours of Queen Elizabeth II</a:t>
            </a:r>
            <a:br>
              <a:rPr sz="40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eaeaea"/>
                </a:solidFill>
                <a:latin typeface="Verdana"/>
              </a:rPr>
              <a:t>Titles and styl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Elizabeth has held titles throughout her life, as a granddaughter of the monarch, as a daughter of the monarch, through her husband's titles, and eventually as Sovereign. She i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The Quee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or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Her Majest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. Officially, she has got many titles: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Queen of Canada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in Canada,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Queen of Australia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in Australia, etc. In the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Channel Islands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Isle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she is known as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Duke of Normand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de-AT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Lord of Man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respectively. Additional styles include Defender of the Faith and Duke of Lancaster. When in conversation with the Queen, the practice is to initially address her a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Your Majesty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and thereafter as </a:t>
            </a:r>
            <a:r>
              <a:rPr b="0" i="1" lang="de-AT" sz="1800" spc="-1" strike="noStrike">
                <a:solidFill>
                  <a:srgbClr val="eaeaea"/>
                </a:solidFill>
                <a:latin typeface="Verdana"/>
              </a:rPr>
              <a:t>Ma'am</a:t>
            </a: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 (to rhyme with "ham"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ffcc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1) How many children has Queen Elisabeth got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2) Who was her father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3) Since when does she rule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4) In how many countries is she Quee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5) Who is her husband?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6) Who will be the next king or queen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7) Where was Elisabeth born?</a:t>
            </a:r>
            <a:br>
              <a:rPr sz="1800"/>
            </a:b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8) How do you adress Queen Elisabeth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9) How long does she rule till today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eaeaea"/>
                </a:solidFill>
                <a:latin typeface="Verdana"/>
              </a:rPr>
              <a:t>10) Who was Lady Diana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22:24Z</dcterms:created>
  <dc:creator>WS006</dc:creator>
  <dc:description/>
  <dc:language>en-US</dc:language>
  <cp:lastModifiedBy>x</cp:lastModifiedBy>
  <dcterms:modified xsi:type="dcterms:W3CDTF">2010-04-10T10:10:27Z</dcterms:modified>
  <cp:revision>18</cp:revision>
  <dc:subject/>
  <dc:title>The British Isles</dc:title>
</cp:coreProperties>
</file>